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836-7D20-4B4B-9758-3614852F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E22-5760-4D2B-86F4-2D3BF24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E73-4791-402D-8D47-F6D703E0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27D-FCFC-4E53-B528-7F5C98A9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579-7E42-4FB1-B94D-D12C45E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D6B-E488-4028-86FB-EA3C93D9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621-C22D-49B0-8B3F-F42C69F6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CCA-588D-45C5-8AE1-2BA8229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478-B121-47E2-99B2-CD5E615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FC6-83D3-4729-BFA5-EA58CBE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3DB-C8FE-41C2-B3E5-00417EB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F98-89DC-4235-9577-C53351E8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AD3B-A067-406C-B820-3E006526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41640" y="4444920"/>
            <a:ext cx="1260720" cy="157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33520"/>
            <a:ext cx="792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More than one way to dissect an 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080" y="2860560"/>
            <a:ext cx="6172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Melissa Ha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ZFIN Scientific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the hierarchical relationships between terms affected by stage assign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460680"/>
            <a:ext cx="39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 must exist within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60880"/>
            <a:ext cx="39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’s stage range must overlap or abut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8160" y="4508640"/>
            <a:ext cx="2648160" cy="459720"/>
            <a:chOff x="938160" y="4508640"/>
            <a:chExt cx="2648160" cy="459720"/>
          </a:xfrm>
        </p:grpSpPr>
        <p:graphicFrame>
          <p:nvGraphicFramePr>
            <p:cNvPr id="117" name=""/>
            <p:cNvGraphicFramePr/>
            <p:nvPr/>
          </p:nvGraphicFramePr>
          <p:xfrm>
            <a:off x="938160" y="4584960"/>
            <a:ext cx="36000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8160" y="4584960"/>
                      <a:ext cx="3600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38400" y="450864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s_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316160" y="3125880"/>
          <a:ext cx="360360" cy="24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6160" y="3125880"/>
                    <a:ext cx="3603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97080" y="2736720"/>
          <a:ext cx="3603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7080" y="2736720"/>
                    <a:ext cx="3603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26067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_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17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9720" y="3540240"/>
            <a:ext cx="3434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brain 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mer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9000" y="1504800"/>
            <a:ext cx="394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lio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eminal ganglion 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480" y="5432400"/>
            <a:ext cx="286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plate 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ub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 4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4640" y="106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7640" y="49766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098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280" y="19512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logical intuition sugg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609480"/>
            <a:ext cx="7407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we need CA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acilitate cross-species queries, for example, similar phenotypes or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MODs build anatomy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better curation and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ote better data-mining within and between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species-specific anatomy, cellular and sub-cellular anatomy, processes, functions, stages,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528480"/>
            <a:ext cx="7391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Are the relationships is_a, part_of, and develops_ from sufficient for our needs?  Develops_from has not yet been finalized in OBO-REL. What other relationships are requir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How should the MODs and/or CARO integrate the three ontological granularities of anatomy represented thus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human foundational model of anatomy (FMA) is a structural ontology which offers many advantages.  Can CARO integrate the functional, spatial, developmental, and staged anatom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How many stage relationships are needed?  How should they be defined? How will they be us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How organismally diverse should CARO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How deep should CARO b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3840" y="61707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NE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7632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rganism databases (MODs) use anatomy ontologies for a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740" t="-381" r="0" b="66045"/>
          <a:stretch/>
        </p:blipFill>
        <p:spPr>
          <a:xfrm>
            <a:off x="457200" y="4800600"/>
            <a:ext cx="284940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50292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forelimb bud and so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60944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uzelstein et.al,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7560" y="2590920"/>
            <a:ext cx="2667240" cy="199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90520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brain hindbrain boundary and pronephric 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8200" y="423396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se et.al,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68800" y="40086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gmentation stage: 20-25 so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040" y="125748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14300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tracheal system, lateral co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400" y="190980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s: 13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0" y="216684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ger et al., 198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7610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: 29 so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91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160" y="22845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2720" y="4532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9000" y="1066680"/>
            <a:ext cx="5029200" cy="4800600"/>
            <a:chOff x="3429000" y="1066680"/>
            <a:chExt cx="5029200" cy="4800600"/>
          </a:xfrm>
        </p:grpSpPr>
        <p:sp>
          <p:nvSpPr>
            <p:cNvPr id="63" name=""/>
            <p:cNvSpPr/>
            <p:nvPr/>
          </p:nvSpPr>
          <p:spPr>
            <a:xfrm>
              <a:off x="6019920" y="1066680"/>
              <a:ext cx="243828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1447920"/>
              <a:ext cx="190512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3276720"/>
              <a:ext cx="4038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2200" y="4952880"/>
              <a:ext cx="182880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5334120"/>
              <a:ext cx="121932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581280"/>
              <a:ext cx="24382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87360" y="3049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MODs use anatomy ontologies vs. a simple constrained vocabu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 facilitate grouping of annot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6520" y="2133720"/>
            <a:ext cx="3443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indb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hombom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10552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MODs construct their anatomy ontologies using the same principles they will be better able to reason across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1280" y="3733920"/>
            <a:ext cx="50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out ontology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 ontology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developmental anatomy ontologies have multiple axes of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8720" y="1066680"/>
            <a:ext cx="72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nct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ovascular system, nervou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a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, trunk,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oderm, germ ring, lens pla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ructur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ssue, organ, cel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mental staging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048120"/>
            <a:ext cx="7864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re often arranged spatially or by function for ease of browsing or ed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terms are often lumped together for lack of a way to categoriz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are represented in a variety of ways. Terms can be children of superstages, stages can be integrated into each term, or stages can be assigned to terms from a separate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61722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can CARO unify this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63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relationships are being used in developmental anatomy ontolog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7160" y="2228760"/>
            <a:ext cx="68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ification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ical anatomical par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ne to one, one to many, or many to one relationship describing the temporal lineage of anato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MODs have built their anatomy ontologie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7" t="7917" r="67713" b="27948"/>
          <a:stretch/>
        </p:blipFill>
        <p:spPr>
          <a:xfrm>
            <a:off x="152280" y="1828800"/>
            <a:ext cx="2635200" cy="395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043" t="7768" r="66670" b="7856"/>
          <a:stretch/>
        </p:blipFill>
        <p:spPr>
          <a:xfrm>
            <a:off x="6337440" y="1600200"/>
            <a:ext cx="2730240" cy="520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043" t="7741" r="60420" b="18573"/>
          <a:stretch/>
        </p:blipFill>
        <p:spPr>
          <a:xfrm>
            <a:off x="2913120" y="1828800"/>
            <a:ext cx="32590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821880" y="13701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1141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0480" y="1335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uit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06560" y="193824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0120" y="365760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66720" y="2633400"/>
            <a:ext cx="3049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9144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33532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95680"/>
            <a:ext cx="1447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8560" y="228600"/>
            <a:ext cx="80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different levels of anatomical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subcellular anatomy (G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38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cellular anatomy (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838080"/>
            <a:ext cx="23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cies-specific gross anatomy (Z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249" t="26627" r="73126" b="43512"/>
          <a:stretch/>
        </p:blipFill>
        <p:spPr>
          <a:xfrm>
            <a:off x="316080" y="1981080"/>
            <a:ext cx="250344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249" t="26450" r="69412" b="41985"/>
          <a:stretch/>
        </p:blipFill>
        <p:spPr>
          <a:xfrm>
            <a:off x="3137040" y="1941480"/>
            <a:ext cx="2898720" cy="34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1249" t="26450" r="72503" b="38575"/>
          <a:stretch/>
        </p:blipFill>
        <p:spPr>
          <a:xfrm>
            <a:off x="6276960" y="1981080"/>
            <a:ext cx="2511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991080" y="609588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CARO integrate these anatomy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3276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may have defining morphological characteristics or be fia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240" y="38088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developmental s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046320" cy="50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640080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fter Haeckel, from Romanes, 19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143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staging series for differen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http://zfin.org/zf_info/images/high_res_sketches/09h.gif"/>
          <p:cNvPicPr/>
          <p:nvPr/>
        </p:nvPicPr>
        <p:blipFill>
          <a:blip r:embed="rId2"/>
          <a:stretch/>
        </p:blipFill>
        <p:spPr>
          <a:xfrm>
            <a:off x="5362560" y="4448160"/>
            <a:ext cx="1647720" cy="164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67800" y="617220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ebrafish bud stage; 10 – 10.3 h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ge represents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an stages be represented in a developmental anatomy ontolo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1960" y="1676520"/>
            <a:ext cx="26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A (1-2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B (2-3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C (3-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352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atomical structure has a stage range during which i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3480" y="453564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ical structure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during stag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pparent until stag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11:51Z</dcterms:created>
  <dc:creator>Community Network</dc:creator>
  <dc:description/>
  <dc:language>en-US</dc:language>
  <cp:lastModifiedBy>zfin user</cp:lastModifiedBy>
  <dcterms:modified xsi:type="dcterms:W3CDTF">2006-09-08T15:31:11Z</dcterms:modified>
  <cp:revision>47</cp:revision>
  <dc:subject/>
  <dc:title>PowerPoint Presentation</dc:title>
</cp:coreProperties>
</file>